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1D1F-2C38-46CD-9067-878E4780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F494-AAA4-4C7C-99A9-1435FEBA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FAA9-4F84-4B4A-8AB9-D01F2850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099C-4E35-46D2-B2E2-3629106D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6D72-D19B-461B-A928-6216F311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21F8-F4B8-4C08-B135-CC4ADFDF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10D4-3E97-4C34-80FD-C75C6BFA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6D93-F69F-404A-912C-5D268B18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3B9F-F5F7-4C8B-B7F0-67A1239A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444C-FB5F-416E-8FAF-157BBF98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54AF-000D-4C0A-91D5-1FA24E02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BFAA-4981-4EB9-9C6E-FFC8A60C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2092-ADAB-4399-83BF-A4AB96C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18EA-6CBB-4344-A64C-F6DAD593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4A9C-10BE-4C25-99DA-C15E32FF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6B75-83EE-4B6E-A06F-998D361B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603C-1A53-47EE-8898-F1AE8449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DC8B-926A-47BA-8454-98C3486F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C414-9296-41BD-A71C-DCD59E66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D9865-1013-4E8C-9D28-34F54C76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C3E0-B7A2-4CA9-9A0B-10B2E6C3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394A-259C-49C5-B2A2-E071D524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9B2C-B4D2-4BCA-A976-415CD6EB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09EE-BEFF-417A-98C2-0C9D2854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1F61-456A-438A-92D2-2E2C435192A0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a9a8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88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8a9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8a9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5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8a9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678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5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5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7885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587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788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a9a8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678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678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678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0F9C-15C6-4CCE-B60C-C99ACFB2DC6C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7885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5876b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7885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32767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nowledge in Context – Communities of Practi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205740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Session 4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ession Overview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1:  Definition of a Community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2:  Value of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3:  Structure of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4:  Life Cycles of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5:  Cultivating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1:  What is a Community of Pract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rebuchet MS"/>
              </a:rPr>
              <a:t>What is a CoP?</a:t>
            </a:r>
            <a:endParaRPr b="0" lang="en-US" sz="4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Communities of Practice are self-organizing groups of people who share a concern, a set of problems, or a passion about a topic, and who deepen their knowledge and expertise in this area by interacting on an ongoing basis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Ps are defined by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Arial"/>
              </a:rPr>
              <a:t>joint enterpris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- as understood and continually renegotiated by its members (what it is about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e mutual engagement that bind members together into a social entity (how it works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3300"/>
                </a:solidFill>
                <a:latin typeface="Arial"/>
              </a:rPr>
              <a:t>shared repertoir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of communal resources (routines, sensibilities, artifacts, vocabulary, styles, etc.) that members have developed over time (its capabilities)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00"/>
                </a:solidFill>
                <a:latin typeface="Trebuchet MS"/>
              </a:rPr>
              <a:t>What is a CoP?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CoPs are…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Everywhere because they are grounded in practice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Timeless – they have always existed 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Thrive on different levels of participation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Of various sizes (big or small)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Collocated and distribut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pontaneously or intentionally creat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Long-lived and short-liv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Unrecognized and also institutionaliz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Points to Ponder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Describe the communities of practice of which you are a member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at was the factor that launched this community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at is the practice around which it is organized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at role do you play in this community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2:26:40Z</dcterms:created>
  <dc:creator>clifford bedford</dc:creator>
  <dc:description/>
  <dc:language>en-US</dc:language>
  <cp:lastModifiedBy>Valerie Kelly</cp:lastModifiedBy>
  <dcterms:modified xsi:type="dcterms:W3CDTF">2007-07-26T18:16:27Z</dcterms:modified>
  <cp:revision>23</cp:revision>
  <dc:subject/>
  <dc:title>Communities of Practice St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Session4_Part1_2007</vt:lpwstr>
  </property>
</Properties>
</file>